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9D5-DFF3-4E9F-A66A-072E2C59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A69-55ED-45AD-B891-005F2D79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B8F38-9AFE-4DDF-8B83-DFEBC5A4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9A821-D0C7-445B-B941-DC994F06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36818-DD74-4D82-9516-E44F380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6F3B8-12B5-4B14-9A42-35EEA265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700EF-78F1-4FD8-B295-1C44A47A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EB0CA-0BDE-4DE6-AA91-956C5F38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144C8-A738-432A-844A-99B25CE1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7ADA8-BBCE-4F2A-99FE-8C9334C9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1418D-9A4F-4FF8-BF4B-4B01B912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42C-1257-414B-B4D3-C26FE8B7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B32-DC3C-448E-A4BD-CE3EB4EB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7BA4-371E-476A-96BB-B97597C1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4D78-F6A6-49F6-BABD-D3D2BAC3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16DA-92D6-4028-BAA2-3B8202DB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D509-4E53-4733-B815-D2279799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B2FB-BD9A-48B2-8FB3-4ADAE1C5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EBFC-E8A0-4A3E-962F-8B1FE740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1CA9-1E77-4869-ACD2-3BA2A509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78B-D375-481B-87F6-D1860F29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CE3D-01D9-4D33-B34E-5204240F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B0B-9A6F-4CFE-8F4A-05CE7BCD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1E53-5198-4407-93CA-949710E0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081E-BB56-487B-B2FF-6E9468E1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5518-9A30-4AA2-8A83-84D52DFA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206A-4F17-49A0-8338-87DD2227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0C01C-6C36-42A9-91FC-1DF68107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7099-1C01-4249-9AF9-8DC0180B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9722E-D850-4636-B0E3-42C9D543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C679C-6988-4E0A-B1D0-07804272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509-7411-49CF-A5C5-2284F30F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ECBF-FD9C-45FC-8D4A-296E3A57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5066-61F5-4EE4-8E89-870DAF9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6C62-6742-4F63-A3FC-2553DFD9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4801-A092-4D8E-BC4A-1BDCC416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5A122-5C56-4AE9-8883-0D581AEC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6430A-D213-4553-8C08-8D1A704E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9B09-F1C6-4FDE-97DF-D29721A7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C7DB6-344E-4DD3-A731-FFCD9BD5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16E0-F424-42F3-ABC6-A46B3B26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D86B7-69EC-4885-9F28-A06FD455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5CF-8408-4A29-BDA6-AD3869B3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D993E-3D1F-4864-A414-B6749B62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1D37F-7777-4C38-B022-76E49FEB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5BE68-76AC-4514-8644-927DA060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292C-50CB-405F-8E84-A5829558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60F66-3643-4783-80F6-F92700E6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37EC8-7047-471D-A750-3C797B65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7375D-D5E6-4615-8CB3-94F0B01C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DC562-C077-48A5-851A-C38FFED9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A239-2E42-476B-971A-01EC46C2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C73B9-2314-40F6-B460-8105F72F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28D-8163-4FCC-B0E2-EEC88696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3D066-F555-46ED-85B2-EAF8E579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1FF8-2F93-405D-B330-29A80B83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C26B5-6371-4A5D-9EE5-C9A69633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604D6-A782-47E5-8B34-52A94EAA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9789-41E0-4E72-BD43-E91D8517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C66B-F51A-4221-8986-8D5ACD55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1D138-3BDB-4C99-8EDA-82BDA5F9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77D21-E454-4F58-9C0A-3D0DA3C7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6CDEE-53DE-49A5-9A5B-120A3E6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B86F7-662F-467C-854E-BEA67496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AAA6-99D2-4AF2-9A42-5719D334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2FCD9-8B0A-4454-9CF3-FBEF4548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242C7-60E4-4965-80D4-F25577CF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39E53-66C3-4BBC-AF74-7B0088DC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D6120-461B-4631-8E94-E841B4C9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70CD7-7849-4782-AD32-54CA707B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836DD-6964-429E-AA2B-0738ED39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EB37E-6198-4F98-AA70-603FA6AB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8015-FEB5-4544-A824-3B4A0244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969F0-1F45-4491-B3D5-B787D474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1E73-F45F-4911-B767-72587FF5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951-077A-44A7-AD66-0344D37C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3DEB-700E-45DA-B01D-AE81B79F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2541-B611-42D2-9F96-E922E4D9E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FEA02-C2F0-4EEE-B641-D591AFD83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B917-F9F9-420F-8271-05E96195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97A54-3CCB-4EB9-8B57-D3C26C0F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3E3BE-C0EB-40C5-BACA-4930E16D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7A23B-EADF-4309-B827-07951E0F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5E75D-13C3-4A83-8933-00ED0FB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62AF1-D320-4566-847C-0656D69A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B554E-69ED-4272-B038-28E9C59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1D57-8692-4D4A-998C-8902637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953B7-6267-4924-97D5-9BC5AFAB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9E0B5-7C99-4E13-ACC0-2682DCC8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1C8D3-ADB1-4C47-9753-CA4BCA19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6773E-C964-4F83-933F-336B9659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CB54B-1411-4D70-A6D1-E4CFAC4D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23B4B-6D87-421C-A99E-0FF7FB5F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11579-2A33-4D2A-9E0B-15CE16CD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F0ED3-4EF6-49BB-A29B-DD9442D9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AEFC9-E7D8-448A-9C53-13DF365D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2F5CF-19E7-4293-B5D8-ED4A212F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5FE-7707-4508-852F-5E761014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5040F-33E1-4E13-87F3-46541489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1C97B-B1C0-40E7-AD11-53BDD7C4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2C074-9D58-4A56-AA94-FCA93463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E11EB-BDCE-4BBD-9AC5-703CAE81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0D241-36AB-42C2-9812-60765BEF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F6373-414C-4139-AD2A-487CD78F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1FA84-9386-4351-92E4-D61B4864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33C14-D032-4322-A6B2-A7394B35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9B136-908D-4CF0-8ADE-93A386A3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FB252-DF2D-45CB-9F38-3D783A05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B74D-365A-4F22-ACF2-ED438F7116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D4B5-E30F-4992-BCD8-F5A69CFCE90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D6A9-05FD-4E31-9527-76EE6150FC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C848-2BB7-450A-9868-B35C38CE063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128D-4A0A-4A55-9117-55FBF9A4D4E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2AEB-B791-4F95-842D-12A43309A8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FFAF-F0CB-42BF-96AD-253CDEE3B86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79DD-D21F-4104-8EC8-658C148AFB3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FAC7-8A7C-4669-A48D-43457BC270A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3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7175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4e3b30"/>
                </a:solidFill>
                <a:latin typeface="Franklin Gothic Book"/>
              </a:rPr>
              <a:t>Lydia is in the school band where she plays the flute.  She must practice her flute 5 hours each week.  She always plays her flute from 1 to 2 hours each time she practices.  There are 42 members in the band in all.  Five of the band members play the flute.</a:t>
            </a:r>
            <a:endParaRPr b="0" lang="en-US" sz="4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80000"/>
              </a:lnSpc>
              <a:spcBef>
                <a:spcPts val="10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699760" cy="12682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218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w many hours will Lydia practice in 4 weeks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98440" y="262080"/>
            <a:ext cx="8699400" cy="1268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28600" y="12949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at would be a reasonable number of days for Lydia to practice her flute each week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1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699760" cy="1268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21932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w many minutes does Lydia practice her flute each week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218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f Lydia practiced 2 hours on Monday and 2 Hours on Wednesday, how many minutes would she still have to practice that week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298440" y="109440"/>
            <a:ext cx="8699400" cy="12686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219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w many band members do not play the flut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22:12:55Z</dcterms:created>
  <dc:creator>127partidak</dc:creator>
  <dc:description/>
  <dc:language>en-US</dc:language>
  <cp:lastModifiedBy>127partidak</cp:lastModifiedBy>
  <dcterms:modified xsi:type="dcterms:W3CDTF">2012-02-03T22:27:44Z</dcterms:modified>
  <cp:revision>2</cp:revision>
  <dc:subject/>
  <dc:title>Information</dc:title>
</cp:coreProperties>
</file>